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897-673E-4879-9230-E7DA8388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8AD-79FA-41F4-B3D7-60051DF2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B7C-FE8A-4F57-8CB9-91702D5F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8CF-8757-4076-B594-8A5F66FA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127-8AB9-4850-A3F3-8821F5CB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F10-4360-416D-9DC5-D1E77B6A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F5B-19E2-4132-A2F2-F82A1442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4E2-596A-4A02-BFC4-61780543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A8E-16D2-4BD9-8DA7-2E920490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260-DBAE-4756-8DDC-54DD7B6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200-C7DD-4EBA-8A44-F2123F7F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D2A-2325-47C5-B008-BB35D777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AEEC-1E67-48D3-93A0-EAF4889F58E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Marcador de contenido" descr=""/>
          <p:cNvPicPr/>
          <p:nvPr/>
        </p:nvPicPr>
        <p:blipFill>
          <a:blip r:embed="rId1"/>
          <a:stretch/>
        </p:blipFill>
        <p:spPr>
          <a:xfrm>
            <a:off x="493560" y="109440"/>
            <a:ext cx="8242560" cy="553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5643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namá, CELADEL (Junio, 2015)</a:t>
            </a:r>
            <a:br>
              <a:rPr sz="28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lfonso Yerga Cobos (ayerga@upo.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0040" y="1857240"/>
          <a:ext cx="8186760" cy="3571920"/>
        </p:xfrm>
        <a:graphic>
          <a:graphicData uri="http://schemas.openxmlformats.org/drawingml/2006/table">
            <a:tbl>
              <a:tblPr/>
              <a:tblGrid>
                <a:gridCol w="1636560"/>
                <a:gridCol w="1638360"/>
                <a:gridCol w="1636920"/>
                <a:gridCol w="1638360"/>
                <a:gridCol w="163656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bi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n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biernos reg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biernos loc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D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añ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amar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Descentralización y gobernanza loc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500040" y="5643720"/>
            <a:ext cx="821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FUENTE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ara descentralización del gasto público: OCDE, datos de 2013, en porcentaje de dicho gas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ara IDH: PNUD, datos de 20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14200" y="1600200"/>
          <a:ext cx="8715600" cy="4186080"/>
        </p:xfrm>
        <a:graphic>
          <a:graphicData uri="http://schemas.openxmlformats.org/drawingml/2006/table">
            <a:tbl>
              <a:tblPr/>
              <a:tblGrid>
                <a:gridCol w="735120"/>
                <a:gridCol w="612720"/>
                <a:gridCol w="611280"/>
                <a:gridCol w="755640"/>
                <a:gridCol w="571320"/>
                <a:gridCol w="642960"/>
                <a:gridCol w="785880"/>
                <a:gridCol w="714600"/>
                <a:gridCol w="572760"/>
                <a:gridCol w="677880"/>
                <a:gridCol w="679680"/>
                <a:gridCol w="677880"/>
                <a:gridCol w="67788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U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VIE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añ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m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amar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añ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m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amar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añ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m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amar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Descentralización y gobernanza loc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5 CuadroTexto"/>
          <p:cNvSpPr/>
          <p:nvPr/>
        </p:nvSpPr>
        <p:spPr>
          <a:xfrm>
            <a:off x="214200" y="6000840"/>
            <a:ext cx="771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FUENTE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: OCDE (datos de 2012 en porcentaje del PI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Descentralización y gobernanza loc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2215" t="10335" r="3691" b="15748"/>
          <a:stretch/>
        </p:blipFill>
        <p:spPr>
          <a:xfrm>
            <a:off x="500040" y="1643040"/>
            <a:ext cx="8143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 Marcador de contenido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Descentralización y gobernanza loc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09:19:25Z</dcterms:created>
  <dc:creator>*</dc:creator>
  <dc:description/>
  <dc:language>en-US</dc:language>
  <cp:lastModifiedBy>*</cp:lastModifiedBy>
  <dcterms:modified xsi:type="dcterms:W3CDTF">2015-06-02T09:39:20Z</dcterms:modified>
  <cp:revision>3</cp:revision>
  <dc:subject/>
  <dc:title>Panamá, CELADEL (Junio, 2015) Alfonso Yerga Cobos (ayerga@upo.es)</dc:title>
</cp:coreProperties>
</file>